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644A-4249-44AB-9ED0-5B8E8C04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4EFF-F846-4D83-B52A-E751CF06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24F8F-43C1-4C7F-93F0-5CE3F50E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C7133-AD5D-44E0-AC74-9FFD8532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9A004-356D-43DC-9A6A-9033C424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5DC48-3945-456F-815A-827E7E04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F8C78-3A1B-4F26-AB27-48B0BD92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A1B11-E71E-43F1-B928-BAFA1F13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5F8DC-B12E-41FA-82B7-1B6F7369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E5944-3138-4E72-92F8-C199B54E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806DA-5FF0-4C62-9224-6D274B41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79F80-524F-4D22-96EC-756F0988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A4FD-C233-4099-9B33-B8FD1AAF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BDB33-D9C2-47B1-AB01-704D0BB6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43E89-F778-490B-91B0-6F4E85C4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DF01A-7108-41C3-881F-04D15F2D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A6203-9DC0-43E2-9868-022D90CE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E107C-F88E-4433-9459-DB6294DD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F8EF4-C1A0-4838-91E6-B326BD2D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7C81D-3FB6-40F8-81C6-662FE898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D3726-CA01-4DC0-A6DC-9F8E577D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0CAAB-5A42-4E2D-9E06-913090CA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42108-A1EA-4E3A-AD12-FBF6F6C1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728F-8195-494E-8C1E-0FC6CDE3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8CCD9-02A2-42DC-9573-E6DB1C0C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4ED4B-175A-4739-A642-4860D450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280A5-6115-4FB1-8AEC-F72E86B1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4A2A8-484D-42CC-BA76-ABDE57CF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85FC9-41F7-470C-A08F-31120C32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3B115-142C-4FC4-ABF4-5320AB22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47B89-DDF7-4187-A3B2-C41C42A0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26B54-2C02-4F6C-8B08-74476CB2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A0EBA-2363-4D5E-B76A-B7A1C110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B15D1-E79D-4C1C-9F24-AB5166C1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A452-D4A1-4072-9E29-23BAC85A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E768B-9685-4020-877D-68807864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F73C2-7019-4A30-A154-3E721FC9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30D01-24DD-4986-A683-60536DDC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66A84-AE7B-43AB-977F-A6758C85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C2F16-ED3F-43F1-8981-211CC659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5F1B7-D20E-42B3-BF37-76C08BD7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C6CE7-75DC-4707-A490-174AA15A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7A666-3CF8-455A-B488-0C0CBE7B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D3E637-EE43-4467-B1B7-95B1B652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6CF3C-7333-4596-A63C-77D71383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C9B8-6D76-4D02-A07D-9754B737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133E6-CFAA-459E-946D-C4B46D91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E0788-584F-4F84-88B2-6133E80C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CFEE9-B3BD-47D1-A642-16EAB496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78D45-ACF7-4367-BD1C-AF924F45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0CFDF-CB14-48E1-B3D7-1A6BBBA9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1ECCC9-C222-488A-B125-A47B1921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1C95AB-DA3D-4261-A719-C6463071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643B49-0072-40EC-A9D8-F3B00055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C58C69-93B1-4CCF-9997-AAAFCB7A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C10069-F35B-45A6-AEA3-7E6575A3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D14E-1803-4838-AC16-F5B1B69A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6E340D-B6BE-4AEE-832E-624CB26B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C75C63-28FE-4946-BC64-FAFF3845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DA19E4-DEE8-4855-815A-1C03D064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E23935-6152-4120-AF2D-AAA6875F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069303-42F4-478E-9A13-4A65A21B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CD3D05-FB09-4027-B649-A518A4A0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70C213-A676-402D-ACFA-815FEA56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CDD7-A6B8-4924-8CF7-C4252AB7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3F5D-EC41-4FAD-A287-EA20CC10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7591-0ED7-4AD9-B4E6-614CB411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514E-A00B-4590-9549-C04A6CB1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FB68-D638-430E-B70B-A383CD70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94FC-5F9F-4842-AC15-9C39C1AD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13FF-7EB0-4A4E-8379-8C31D60B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8053-7AA5-4C0B-A8AB-C61C2ED7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7279-96F9-4964-A497-B52B3E30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365B-E64E-4D78-B60E-906F12BB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1F3D9-57C2-4B19-AF24-8C781D41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455E3-D475-41E2-B37B-9D6495DF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16FB8-ADF0-4EB5-B8D9-279F3042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50FB3-9373-499C-8C7F-1F2FB9BF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55D96-95A1-4EA3-A93F-1693D465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B8C0-D354-4048-B84C-EC7DD9A9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2F7D2-0334-42C9-B863-B7043A4A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1641E-C7C5-499B-A52C-FCB78EF2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7BF6A-60CA-4760-BB31-B54313E3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C70BE-6C78-4F23-A8CD-9F786C10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37606-4499-4247-92C5-4B328190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97CFB-2FC3-4313-B450-F5DAF55C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87F15-DC64-476F-B131-22EE3ED6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C2B21-6C38-434D-809C-BEAE11AA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232CB-19F7-4E01-A12C-28DA8B83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4A84F-F395-4CB2-8459-C3072926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3BD9-57E9-47EB-9515-4F2A7957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9F245-1689-4B3F-9AA1-F9F82149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C400E-1A40-4C62-81E5-5BC6E724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75A8B-D8F3-42C4-A2F0-61FEDD5D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B40DE-EDAE-446D-B17A-8A99AD9C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9116B-1193-4CAA-8548-95FF8872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A9F07-FD91-45FB-93B0-5D61CE1E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BE00A-8391-4A59-89A0-FD19006F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A5DE1-751A-4F51-9C20-58748AC5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3B7CF-54DD-4BF3-98B0-BF59694D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3F177-CB74-4880-8A6B-B1A9EA09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19EC-6691-4932-9EFE-EDD772A2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E85BC-5D91-4FCB-8381-803A1A2E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046D0-C277-4302-921F-11ACF7FC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3DCF3-2FD8-4BEB-833C-E2DF6FF2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D133F-EEF3-4EB7-BDA1-901CC83E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5276A-73D9-4AFD-B38F-07CC7C18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785CB-48A4-4F68-8A28-EF835631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1E22E-E4FE-4620-AF62-EF6773D1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A6D9B-81B2-4700-B829-DA30AC72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4206D-E3AC-47C1-A615-D43C09DC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674C8-5FD4-4721-A1FB-E51F2113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3FC7-795C-4DD8-8D8D-E559BF57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2C55C-C174-4FD0-895B-C1CB33CA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4E4ED-9680-4D2B-BC2D-E091B034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B3751-6108-4F0C-850D-D79C8311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7C227-9B21-4896-93B2-C1D84203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6BDD3-1F7F-40A7-9461-E7BBDF02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90F62-2C22-46C4-BF9C-6FB7754D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BD855-8887-4FF5-BBEE-2ADBE5B2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67BB3-7E6F-4036-A8B3-E5396535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9CE3E-D7FE-4D17-859F-F29C7165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1056A-1F5D-4DB9-8DB9-9938D804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207E-EBB1-4343-AA42-F4C2BC86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C0232-CA16-4A1F-B405-477453DC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A6DC4-36BF-42C2-89BA-3B799CDF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25F33-946A-4EA9-A608-8E71DD6E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36DF9-3A5C-4BA8-9BFE-7ACCE9C2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3C251-D2C0-4C82-8026-071E7206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FE690-5516-4C9A-8AD1-777ACA6E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DF441-D50C-4519-B409-5FB61CD6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BF8C6-F49D-460B-A293-94DCA059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58FDD-6743-419D-A0D0-7E6651A5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5FEFE-F427-49F9-BEF7-52D75721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B149-A7CB-465B-93CE-C89901A3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DB975-1A8A-4AB5-8D67-F650F043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0A440-D1D1-4213-93EE-C4BB0CF0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C3D69-D850-4B54-8F42-B0ADED7D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9E3CA-D626-4017-A4EB-9A48A321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29DD4-514F-4880-B95F-E43B98D0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A6A13-C6A1-4930-A205-919DCCBA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6ED08-507E-4647-AD1F-20CA40A4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5B028-6B64-446B-B981-C3E479EB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3E7A2-C6DE-44EF-A6E0-F076F5F1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7C316-76FD-4059-ADFE-E59CE267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0472-AD60-407D-92DE-1DD0F967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02DE6-F92B-45E1-A493-1D1A2EB6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6081F-B469-4A90-87AD-710815EB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2221F-3C47-4036-BC3A-C4DF0327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1A33D-279B-4E4E-A0AD-2646622D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B04BA-DD6D-4C8A-8E9B-7B5BAB2F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1A458-FDAA-4927-9A36-0653DF17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D75A9-C809-4BD7-B10B-5C70E10F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01766-459F-4401-9476-644A3936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5E900-838D-4EC9-ADDA-20BB7638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3CF11-8597-4770-A1CF-D2EE1082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69DB-CCEA-4999-A20F-2A83383E39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873E-ADB9-4C15-A378-572524AB9B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D4DB-66DA-4A78-A820-CEDD7E878C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718F-B978-4F33-9F4C-A021F688D0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D72C-0031-4C0B-B95B-9CA3CFA88D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1CB8-4E60-40AE-9E69-60F9CFAE2E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B802-8F52-4E32-A17B-5630C1CE1D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A89F-C989-4807-BB60-D8D64C8DF8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79C5-59D0-4846-ADE4-97A382CFCA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5666-294C-403C-B466-77C51593F1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C4A8-E12C-4650-A64D-DD343624C0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A5B0-0F9C-47E8-B433-FF1B64E09C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D389-EE61-40A9-B215-E86FD0CC0C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108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16000" y="1773360"/>
            <a:ext cx="802800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6600"/>
                </a:solidFill>
                <a:latin typeface="American Retro"/>
              </a:rPr>
              <a:t>Смежные   угл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763640" y="907560"/>
            <a:ext cx="6400800" cy="14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отр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Segoe Print"/>
              </a:rPr>
              <a:t>Проверяем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3"/>
          <p:cNvSpPr/>
          <p:nvPr/>
        </p:nvSpPr>
        <p:spPr>
          <a:xfrm>
            <a:off x="1800360" y="2060640"/>
            <a:ext cx="734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авильных ответов –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5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авильных ответов –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4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авильных ответов – 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3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&lt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авильных решений – 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611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99"/>
                </a:solidFill>
                <a:uFillTx/>
                <a:latin typeface="American Retro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611360" indent="0" algn="ctr">
              <a:spcBef>
                <a:spcPts val="1100"/>
              </a:spcBef>
              <a:buNone/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авить 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611360" indent="0" algn="ctr">
              <a:spcBef>
                <a:spcPts val="1100"/>
              </a:spcBef>
              <a:buNone/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тему « Смежные углы»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457200" y="2852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3300"/>
                </a:solidFill>
                <a:latin typeface="Olietta script-Poesia"/>
              </a:rPr>
              <a:t>Спасибо за урок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6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55" name="Line 10"/>
          <p:cNvSpPr/>
          <p:nvPr/>
        </p:nvSpPr>
        <p:spPr>
          <a:xfrm>
            <a:off x="3276720" y="3213000"/>
            <a:ext cx="3311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1"/>
          <p:cNvSpPr/>
          <p:nvPr/>
        </p:nvSpPr>
        <p:spPr>
          <a:xfrm flipV="1">
            <a:off x="3276720" y="1484280"/>
            <a:ext cx="1942920" cy="1728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2"/>
          <p:cNvSpPr/>
          <p:nvPr/>
        </p:nvSpPr>
        <p:spPr>
          <a:xfrm flipH="1" flipV="1">
            <a:off x="2916000" y="1052280"/>
            <a:ext cx="360360" cy="21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3"/>
          <p:cNvSpPr/>
          <p:nvPr/>
        </p:nvSpPr>
        <p:spPr>
          <a:xfrm>
            <a:off x="2486160" y="83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4"/>
          <p:cNvSpPr/>
          <p:nvPr/>
        </p:nvSpPr>
        <p:spPr>
          <a:xfrm>
            <a:off x="5345280" y="136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5"/>
          <p:cNvSpPr/>
          <p:nvPr/>
        </p:nvSpPr>
        <p:spPr>
          <a:xfrm>
            <a:off x="6569280" y="3016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6"/>
          <p:cNvSpPr/>
          <p:nvPr/>
        </p:nvSpPr>
        <p:spPr>
          <a:xfrm>
            <a:off x="2968560" y="3160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7"/>
          <p:cNvSpPr/>
          <p:nvPr/>
        </p:nvSpPr>
        <p:spPr>
          <a:xfrm>
            <a:off x="3618360" y="35924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30"/>
          <p:cNvSpPr/>
          <p:nvPr/>
        </p:nvSpPr>
        <p:spPr>
          <a:xfrm rot="19088400">
            <a:off x="3636720" y="20599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32"/>
          <p:cNvSpPr/>
          <p:nvPr/>
        </p:nvSpPr>
        <p:spPr>
          <a:xfrm>
            <a:off x="7236000" y="5516640"/>
            <a:ext cx="115236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Дуга 26"/>
          <p:cNvSpPr/>
          <p:nvPr/>
        </p:nvSpPr>
        <p:spPr>
          <a:xfrm>
            <a:off x="3571920" y="2928960"/>
            <a:ext cx="142920" cy="500040"/>
          </a:xfrm>
          <a:custGeom>
            <a:avLst/>
            <a:gdLst>
              <a:gd name="textAreaLeft" fmla="*/ 71640 w 142920"/>
              <a:gd name="textAreaRight" fmla="*/ 143280 w 142920"/>
              <a:gd name="textAreaTop" fmla="*/ 0 h 500040"/>
              <a:gd name="textAreaBottom" fmla="*/ 250200 h 500040"/>
            </a:gdLst>
            <a:ahLst/>
            <a:rect l="textAreaLeft" t="textAreaTop" r="textAreaRight" b="textAreaBottom"/>
            <a:pathLst>
              <a:path stroke="0" w="142875" h="500062">
                <a:moveTo>
                  <a:pt x="71438" y="0"/>
                </a:moveTo>
                <a:lnTo>
                  <a:pt x="71438" y="0"/>
                </a:lnTo>
                <a:arcTo wR="71438" hR="250031" stAng="-5400000" swAng="5400000"/>
                <a:lnTo>
                  <a:pt x="71438" y="250031"/>
                </a:lnTo>
                <a:close/>
              </a:path>
              <a:path fill="none" w="142875" h="500062">
                <a:moveTo>
                  <a:pt x="71438" y="0"/>
                </a:moveTo>
                <a:lnTo>
                  <a:pt x="71438" y="0"/>
                </a:lnTo>
                <a:arcTo wR="71438" hR="250031" stAng="-5400000" swAng="5400000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Дуга 30"/>
          <p:cNvSpPr/>
          <p:nvPr/>
        </p:nvSpPr>
        <p:spPr>
          <a:xfrm>
            <a:off x="3000240" y="2928960"/>
            <a:ext cx="500040" cy="71280"/>
          </a:xfrm>
          <a:custGeom>
            <a:avLst/>
            <a:gdLst>
              <a:gd name="textAreaLeft" fmla="*/ 250200 w 500040"/>
              <a:gd name="textAreaRight" fmla="*/ 500400 w 500040"/>
              <a:gd name="textAreaTop" fmla="*/ 0 h 71280"/>
              <a:gd name="textAreaBottom" fmla="*/ 35640 h 71280"/>
            </a:gdLst>
            <a:ahLst/>
            <a:rect l="textAreaLeft" t="textAreaTop" r="textAreaRight" b="textAreaBottom"/>
            <a:pathLst>
              <a:path stroke="0" w="500063" h="71437">
                <a:moveTo>
                  <a:pt x="250032" y="0"/>
                </a:moveTo>
                <a:lnTo>
                  <a:pt x="250032" y="0"/>
                </a:lnTo>
                <a:arcTo wR="250032" hR="35719" stAng="-5400000" swAng="5400014"/>
                <a:lnTo>
                  <a:pt x="250032" y="35719"/>
                </a:lnTo>
                <a:close/>
              </a:path>
              <a:path fill="none" w="500063" h="71437">
                <a:moveTo>
                  <a:pt x="250032" y="0"/>
                </a:moveTo>
                <a:lnTo>
                  <a:pt x="250032" y="0"/>
                </a:lnTo>
                <a:arcTo wR="250032" hR="35719" stAng="-5400000" swAng="5400014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Дуга 31"/>
          <p:cNvSpPr/>
          <p:nvPr/>
        </p:nvSpPr>
        <p:spPr>
          <a:xfrm>
            <a:off x="2857680" y="2786040"/>
            <a:ext cx="785520" cy="117360"/>
          </a:xfrm>
          <a:custGeom>
            <a:avLst/>
            <a:gdLst>
              <a:gd name="textAreaLeft" fmla="*/ 392760 w 785520"/>
              <a:gd name="textAreaRight" fmla="*/ 785880 w 785520"/>
              <a:gd name="textAreaTop" fmla="*/ 0 h 117360"/>
              <a:gd name="textAreaBottom" fmla="*/ 58680 h 117360"/>
            </a:gdLst>
            <a:ahLst/>
            <a:rect l="textAreaLeft" t="textAreaTop" r="textAreaRight" b="textAreaBottom"/>
            <a:pathLst>
              <a:path stroke="0" w="785813" h="117475">
                <a:moveTo>
                  <a:pt x="392907" y="0"/>
                </a:moveTo>
                <a:lnTo>
                  <a:pt x="392907" y="0"/>
                </a:lnTo>
                <a:arcTo wR="392907" hR="58738" stAng="-5400000" swAng="5400009"/>
                <a:lnTo>
                  <a:pt x="392907" y="58738"/>
                </a:lnTo>
                <a:close/>
              </a:path>
              <a:path fill="none" w="785813" h="117475">
                <a:moveTo>
                  <a:pt x="392907" y="0"/>
                </a:moveTo>
                <a:lnTo>
                  <a:pt x="392907" y="0"/>
                </a:lnTo>
                <a:arcTo wR="392907" hR="58738" stAng="-5400000" swAng="5400009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69" name="Line 17"/>
          <p:cNvSpPr/>
          <p:nvPr/>
        </p:nvSpPr>
        <p:spPr>
          <a:xfrm>
            <a:off x="2195640" y="2421000"/>
            <a:ext cx="489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8"/>
          <p:cNvSpPr/>
          <p:nvPr/>
        </p:nvSpPr>
        <p:spPr>
          <a:xfrm flipV="1">
            <a:off x="4286160" y="474480"/>
            <a:ext cx="1871640" cy="194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9"/>
          <p:cNvSpPr/>
          <p:nvPr/>
        </p:nvSpPr>
        <p:spPr>
          <a:xfrm>
            <a:off x="4932360" y="1916280"/>
            <a:ext cx="113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тр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0"/>
          <p:cNvSpPr/>
          <p:nvPr/>
        </p:nvSpPr>
        <p:spPr>
          <a:xfrm>
            <a:off x="3059640" y="177336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уп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1"/>
          <p:cNvSpPr/>
          <p:nvPr/>
        </p:nvSpPr>
        <p:spPr>
          <a:xfrm>
            <a:off x="3761280" y="25844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2"/>
          <p:cNvSpPr/>
          <p:nvPr/>
        </p:nvSpPr>
        <p:spPr>
          <a:xfrm>
            <a:off x="2556000" y="5445000"/>
            <a:ext cx="4464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23"/>
          <p:cNvSpPr/>
          <p:nvPr/>
        </p:nvSpPr>
        <p:spPr>
          <a:xfrm flipV="1">
            <a:off x="4643280" y="3573000"/>
            <a:ext cx="0" cy="187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4"/>
          <p:cNvSpPr/>
          <p:nvPr/>
        </p:nvSpPr>
        <p:spPr>
          <a:xfrm>
            <a:off x="4840200" y="486396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5"/>
          <p:cNvSpPr/>
          <p:nvPr/>
        </p:nvSpPr>
        <p:spPr>
          <a:xfrm>
            <a:off x="3040200" y="486396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6"/>
          <p:cNvSpPr/>
          <p:nvPr/>
        </p:nvSpPr>
        <p:spPr>
          <a:xfrm>
            <a:off x="3977280" y="575316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7"/>
          <p:cNvSpPr/>
          <p:nvPr/>
        </p:nvSpPr>
        <p:spPr>
          <a:xfrm>
            <a:off x="4643280" y="5300640"/>
            <a:ext cx="144720" cy="144360"/>
          </a:xfrm>
          <a:prstGeom prst="rect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8"/>
          <p:cNvSpPr/>
          <p:nvPr/>
        </p:nvSpPr>
        <p:spPr>
          <a:xfrm>
            <a:off x="4500720" y="5300640"/>
            <a:ext cx="142560" cy="144360"/>
          </a:xfrm>
          <a:prstGeom prst="rect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29"/>
          <p:cNvSpPr/>
          <p:nvPr/>
        </p:nvSpPr>
        <p:spPr>
          <a:xfrm>
            <a:off x="7164360" y="2637000"/>
            <a:ext cx="129708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Дуга 21"/>
          <p:cNvSpPr/>
          <p:nvPr/>
        </p:nvSpPr>
        <p:spPr>
          <a:xfrm>
            <a:off x="4429080" y="2214720"/>
            <a:ext cx="142920" cy="357120"/>
          </a:xfrm>
          <a:custGeom>
            <a:avLst/>
            <a:gdLst>
              <a:gd name="textAreaLeft" fmla="*/ 71640 w 142920"/>
              <a:gd name="textAreaRight" fmla="*/ 143280 w 142920"/>
              <a:gd name="textAreaTop" fmla="*/ 0 h 357120"/>
              <a:gd name="textAreaBottom" fmla="*/ 178560 h 357120"/>
            </a:gdLst>
            <a:ahLst/>
            <a:rect l="textAreaLeft" t="textAreaTop" r="textAreaRight" b="textAreaBottom"/>
            <a:pathLst>
              <a:path stroke="0" w="142875" h="357187">
                <a:moveTo>
                  <a:pt x="71438" y="0"/>
                </a:moveTo>
                <a:lnTo>
                  <a:pt x="71438" y="0"/>
                </a:lnTo>
                <a:arcTo wR="71438" hR="178594" stAng="-5400000" swAng="5400000"/>
                <a:lnTo>
                  <a:pt x="71438" y="178594"/>
                </a:lnTo>
                <a:close/>
              </a:path>
              <a:path fill="none" w="142875" h="357187">
                <a:moveTo>
                  <a:pt x="71438" y="0"/>
                </a:moveTo>
                <a:lnTo>
                  <a:pt x="71438" y="0"/>
                </a:lnTo>
                <a:arcTo wR="71438" hR="178594" stAng="-5400000" swAng="5400000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Дуга 23"/>
          <p:cNvSpPr/>
          <p:nvPr/>
        </p:nvSpPr>
        <p:spPr>
          <a:xfrm flipV="1" rot="10129200">
            <a:off x="3960360" y="2194560"/>
            <a:ext cx="571680" cy="377640"/>
          </a:xfrm>
          <a:custGeom>
            <a:avLst/>
            <a:gdLst>
              <a:gd name="textAreaLeft" fmla="*/ 47520 w 571680"/>
              <a:gd name="textAreaRight" fmla="*/ 564120 w 571680"/>
              <a:gd name="textAreaTop" fmla="*/ 0 h 377640"/>
              <a:gd name="textAreaBottom" fmla="*/ 145800 h 377640"/>
            </a:gdLst>
            <a:ahLst/>
            <a:rect l="textAreaLeft" t="textAreaTop" r="textAreaRight" b="textAreaBottom"/>
            <a:pathLst>
              <a:path stroke="0" w="571500" h="377825">
                <a:moveTo>
                  <a:pt x="47592" y="84520"/>
                </a:moveTo>
                <a:lnTo>
                  <a:pt x="47592" y="84520"/>
                </a:lnTo>
                <a:arcTo wR="285750" hR="188913" stAng="-9379841" swAng="8850483"/>
                <a:lnTo>
                  <a:pt x="285750" y="188913"/>
                </a:lnTo>
                <a:close/>
              </a:path>
              <a:path fill="none" w="571500" h="377825">
                <a:moveTo>
                  <a:pt x="47592" y="84520"/>
                </a:moveTo>
                <a:lnTo>
                  <a:pt x="47592" y="84520"/>
                </a:lnTo>
                <a:arcTo wR="285750" hR="188913" stAng="-9379841" swAng="8850483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19"/>
          <p:cNvSpPr/>
          <p:nvPr/>
        </p:nvSpPr>
        <p:spPr>
          <a:xfrm>
            <a:off x="7020000" y="5805360"/>
            <a:ext cx="143964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86" name="Line 5"/>
          <p:cNvSpPr/>
          <p:nvPr/>
        </p:nvSpPr>
        <p:spPr>
          <a:xfrm>
            <a:off x="4859280" y="3860640"/>
            <a:ext cx="216072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6"/>
          <p:cNvSpPr/>
          <p:nvPr/>
        </p:nvSpPr>
        <p:spPr>
          <a:xfrm flipV="1">
            <a:off x="4859280" y="1341360"/>
            <a:ext cx="720720" cy="25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7"/>
          <p:cNvSpPr/>
          <p:nvPr/>
        </p:nvSpPr>
        <p:spPr>
          <a:xfrm flipH="1">
            <a:off x="1619280" y="3860640"/>
            <a:ext cx="324000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rc 8"/>
          <p:cNvSpPr/>
          <p:nvPr/>
        </p:nvSpPr>
        <p:spPr>
          <a:xfrm flipH="1">
            <a:off x="4211640" y="3357720"/>
            <a:ext cx="792000" cy="502920"/>
          </a:xfrm>
          <a:custGeom>
            <a:avLst/>
            <a:gdLst>
              <a:gd name="textAreaLeft" fmla="*/ 360 w 792000"/>
              <a:gd name="textAreaRight" fmla="*/ 792720 w 792000"/>
              <a:gd name="textAreaTop" fmla="*/ 0 h 502920"/>
              <a:gd name="textAreaBottom" fmla="*/ 503280 h 502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rc 9"/>
          <p:cNvSpPr/>
          <p:nvPr/>
        </p:nvSpPr>
        <p:spPr>
          <a:xfrm>
            <a:off x="5005440" y="3284640"/>
            <a:ext cx="503280" cy="936360"/>
          </a:xfrm>
          <a:custGeom>
            <a:avLst/>
            <a:gdLst>
              <a:gd name="textAreaLeft" fmla="*/ 0 w 503280"/>
              <a:gd name="textAreaRight" fmla="*/ 503640 w 50328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fill="none" w="25202" h="21600">
                <a:moveTo>
                  <a:pt x="0" y="302"/>
                </a:moveTo>
                <a:cubicBezTo>
                  <a:pt x="1190" y="101"/>
                  <a:pt x="2395" y="-1"/>
                  <a:pt x="3602" y="0"/>
                </a:cubicBezTo>
                <a:cubicBezTo>
                  <a:pt x="15531" y="0"/>
                  <a:pt x="25202" y="9670"/>
                  <a:pt x="25202" y="21600"/>
                </a:cubicBezTo>
              </a:path>
              <a:path stroke="0" w="25202" h="21600">
                <a:moveTo>
                  <a:pt x="0" y="302"/>
                </a:moveTo>
                <a:cubicBezTo>
                  <a:pt x="1190" y="101"/>
                  <a:pt x="2395" y="-1"/>
                  <a:pt x="3602" y="0"/>
                </a:cubicBezTo>
                <a:cubicBezTo>
                  <a:pt x="15531" y="0"/>
                  <a:pt x="25202" y="9670"/>
                  <a:pt x="25202" y="21600"/>
                </a:cubicBezTo>
                <a:lnTo>
                  <a:pt x="3602" y="2160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10"/>
          <p:cNvSpPr/>
          <p:nvPr/>
        </p:nvSpPr>
        <p:spPr>
          <a:xfrm>
            <a:off x="6443640" y="5661000"/>
            <a:ext cx="136836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3185280" y="2843280"/>
            <a:ext cx="13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у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2"/>
          <p:cNvSpPr/>
          <p:nvPr/>
        </p:nvSpPr>
        <p:spPr>
          <a:xfrm>
            <a:off x="5704560" y="3419640"/>
            <a:ext cx="13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у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95" name="Line 4"/>
          <p:cNvSpPr/>
          <p:nvPr/>
        </p:nvSpPr>
        <p:spPr>
          <a:xfrm>
            <a:off x="2268360" y="3645000"/>
            <a:ext cx="554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"/>
          <p:cNvSpPr/>
          <p:nvPr/>
        </p:nvSpPr>
        <p:spPr>
          <a:xfrm flipV="1">
            <a:off x="4788000" y="1052280"/>
            <a:ext cx="1584360" cy="25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rc 6"/>
          <p:cNvSpPr/>
          <p:nvPr/>
        </p:nvSpPr>
        <p:spPr>
          <a:xfrm flipH="1">
            <a:off x="4500000" y="3357720"/>
            <a:ext cx="431640" cy="28728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rc 7"/>
          <p:cNvSpPr/>
          <p:nvPr/>
        </p:nvSpPr>
        <p:spPr>
          <a:xfrm>
            <a:off x="5003640" y="3284640"/>
            <a:ext cx="216000" cy="360360"/>
          </a:xfrm>
          <a:custGeom>
            <a:avLst/>
            <a:gdLst>
              <a:gd name="textAreaLeft" fmla="*/ 0 w 216000"/>
              <a:gd name="textAreaRight" fmla="*/ 216360 w 21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rc 8"/>
          <p:cNvSpPr/>
          <p:nvPr/>
        </p:nvSpPr>
        <p:spPr>
          <a:xfrm>
            <a:off x="5076720" y="3141720"/>
            <a:ext cx="287280" cy="503280"/>
          </a:xfrm>
          <a:custGeom>
            <a:avLst/>
            <a:gdLst>
              <a:gd name="textAreaLeft" fmla="*/ 0 w 287280"/>
              <a:gd name="textAreaRight" fmla="*/ 287640 w 287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4265640" y="2916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5560920" y="2987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12"/>
              <p:cNvSpPr txBox="1"/>
              <p:nvPr/>
            </p:nvSpPr>
            <p:spPr>
              <a:xfrm>
                <a:off x="3419640" y="4437000"/>
                <a:ext cx="7617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Text Box 13"/>
          <p:cNvSpPr/>
          <p:nvPr/>
        </p:nvSpPr>
        <p:spPr>
          <a:xfrm>
            <a:off x="4069440" y="4508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14"/>
              <p:cNvSpPr txBox="1"/>
              <p:nvPr/>
            </p:nvSpPr>
            <p:spPr>
              <a:xfrm>
                <a:off x="4932360" y="4437000"/>
                <a:ext cx="76212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Text Box 15"/>
          <p:cNvSpPr/>
          <p:nvPr/>
        </p:nvSpPr>
        <p:spPr>
          <a:xfrm>
            <a:off x="5583240" y="4508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  = 18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16"/>
          <p:cNvSpPr/>
          <p:nvPr/>
        </p:nvSpPr>
        <p:spPr>
          <a:xfrm>
            <a:off x="6588000" y="5661000"/>
            <a:ext cx="100836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6" name=""/>
          <p:cNvGraphicFramePr/>
          <p:nvPr/>
        </p:nvGraphicFramePr>
        <p:xfrm>
          <a:off x="395280" y="907920"/>
          <a:ext cx="8567640" cy="4888080"/>
        </p:xfrm>
        <a:graphic>
          <a:graphicData uri="http://schemas.openxmlformats.org/drawingml/2006/table">
            <a:tbl>
              <a:tblPr/>
              <a:tblGrid>
                <a:gridCol w="4537080"/>
                <a:gridCol w="403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7" name="Text Box 75"/>
          <p:cNvSpPr/>
          <p:nvPr/>
        </p:nvSpPr>
        <p:spPr>
          <a:xfrm>
            <a:off x="3689640" y="2286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«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"/>
          <p:cNvGraphicFramePr/>
          <p:nvPr/>
        </p:nvGraphicFramePr>
        <p:xfrm>
          <a:off x="250920" y="1125360"/>
          <a:ext cx="8642160" cy="499932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9" name=""/>
          <p:cNvGraphicFramePr/>
          <p:nvPr/>
        </p:nvGraphicFramePr>
        <p:xfrm>
          <a:off x="250920" y="930240"/>
          <a:ext cx="8642160" cy="499896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0" name=""/>
          <p:cNvGraphicFramePr/>
          <p:nvPr/>
        </p:nvGraphicFramePr>
        <p:xfrm>
          <a:off x="250920" y="930240"/>
          <a:ext cx="8642160" cy="499896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1" name=""/>
          <p:cNvGraphicFramePr/>
          <p:nvPr/>
        </p:nvGraphicFramePr>
        <p:xfrm>
          <a:off x="250920" y="930240"/>
          <a:ext cx="8642160" cy="499896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 всег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2" name=""/>
          <p:cNvGraphicFramePr/>
          <p:nvPr/>
        </p:nvGraphicFramePr>
        <p:xfrm>
          <a:off x="250920" y="930240"/>
          <a:ext cx="8642160" cy="499896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 всег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4"/>
          <p:cNvSpPr/>
          <p:nvPr/>
        </p:nvSpPr>
        <p:spPr>
          <a:xfrm>
            <a:off x="358920" y="690840"/>
            <a:ext cx="8785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Сумма двух углов = 200 градусов. Смежные ли эти углы?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ЕТ, рис.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Угол, смежный с углом в 30 градусов является тупы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А, рис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Могут ли два смежных угла быть туп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ЕТ, рис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Может ли при пересечении двух прямых образоваться четыре прямых уг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А, рис.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3637080" y="1890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«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4"/>
          <p:cNvSpPr/>
          <p:nvPr/>
        </p:nvSpPr>
        <p:spPr>
          <a:xfrm>
            <a:off x="3689640" y="2286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«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179280" y="982080"/>
            <a:ext cx="896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Если два различных тупых угла имеют общую сторону, то эти углы смежные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ЕТ, рис.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Один из двух углов, образованных при пересечении двух прямых – прямой. Остальные углы тоже прямые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А, рис.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1:10:34Z</dcterms:created>
  <dc:creator>Шевчук</dc:creator>
  <dc:description/>
  <dc:language>en-US</dc:language>
  <cp:lastModifiedBy>Макаров</cp:lastModifiedBy>
  <dcterms:modified xsi:type="dcterms:W3CDTF">2012-03-17T10:30:34Z</dcterms:modified>
  <cp:revision>29</cp:revision>
  <dc:subject/>
  <dc:title>Смежные  и вертикальные углы</dc:title>
</cp:coreProperties>
</file>